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274-B136-4982-A155-4841CCAD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F97-45AE-489B-9155-E545264D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35E-4731-43A5-A992-48D015C0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F75-99BE-46A5-9797-6D824B24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9BC-C78A-47C9-B357-36EB2D00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199-4A40-42EE-A93B-8CEF4397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54F-5161-46E3-B446-84C6219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678-72DC-4E37-BAAB-07901884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2AE-9459-4B89-BA99-700DF9B5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B9-D73A-40E6-9381-AB4916E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B91-A03B-4D84-A4AD-86C82AF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51B-789F-41B1-AB84-24E1C40C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561-8B95-4919-AB1A-37E13395E99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ST</a:t>
            </a: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i Xue 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</a:t>
            </a: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</a:t>
            </a: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J&amp;A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is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ICS/PIXIT required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Detail primavera plan made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Spec and feature list and MMI Spec not releas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deliver pl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2/25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st test run: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5-Apr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5-May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A1+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2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A1+ SW Freeze</a:t>
            </a:r>
            <a:r>
              <a:rPr b="0" lang="zh-CN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st test: 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07-Jun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7-Jun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B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7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S25 SW Freez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6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ub run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fferent SW baseline (SW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ug fi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ach milestone required HW and SW deliver on time.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S and TA schedul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-Jul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princip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TA based on SP65 HW and Aries protocol stac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ull TA test based on new B6E RF integrated with SP65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&amp;TTE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otally n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GCF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and share result with R&amp;T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RF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Delta (SIM, Supplementary Service, 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M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Field Trail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, should be discussed more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CC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E/A team decid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Test LAB and notified bod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EJ 7layers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est lab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ETECOMM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EU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F and Protocol test result on B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2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A freeze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7-Jul-06 to 07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Test and repor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07-Sep-06 to 14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Application Certificate 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5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Get certif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Latest GCF cases status changed and updat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3-DS-S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er related test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orking Spli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fore S25 on A1+ and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 RF and PS test on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before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1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SW related test for whole lifecyc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tween S25 and S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lta test on B2 for TA used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TA paper and planning and certificate 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after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2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Admin</cp:lastModifiedBy>
  <dcterms:modified xsi:type="dcterms:W3CDTF">2006-02-15T00:34:24Z</dcterms:modified>
  <cp:revision>182</cp:revision>
  <dc:subject/>
  <dc:title>PowerPoint</dc:title>
</cp:coreProperties>
</file>